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94F-7E71-448A-8290-A2AA0016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EE8-D572-45CD-9522-5310C636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3C2-6D57-444C-9F7B-81AC70DC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AB6-B7DF-47FE-91C5-47A6DFB8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D0D-6578-4456-BF42-1339B9F6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1E1-3D95-4E87-81A7-C9E0D096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138-E040-4B13-81BE-BD5CD8BD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3CC-2818-4606-B40F-A15E00A5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6D2-D687-4343-B3F1-CAA65072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9CA-2EC8-4440-B9D5-22D35895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88B-36AD-4D44-AA00-AA77BCB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FEF-3458-4928-B843-634A20A9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456F-9189-4921-8CC3-4A0A56F0A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es0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les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les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les1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les1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les1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les1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les1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les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les1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les1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les0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les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les0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les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es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es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les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es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8:01:47Z</dcterms:created>
  <dc:creator>fabio.medessi</dc:creator>
  <dc:description/>
  <dc:language>en-US</dc:language>
  <cp:lastModifiedBy>fabio.medessi</cp:lastModifiedBy>
  <dcterms:modified xsi:type="dcterms:W3CDTF">2010-07-19T09:16:47Z</dcterms:modified>
  <cp:revision>3</cp:revision>
  <dc:subject/>
  <dc:title>Presentazione di PowerPoint</dc:title>
</cp:coreProperties>
</file>